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EC9-4E35-40E9-ABE1-0D56F4D1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99C-CF3C-45B0-A187-87862DF5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E3D-0CEF-42D8-B0C5-8CAD601E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3DA-26E0-4A71-8E8C-E361411E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CF0-0A82-4A57-8338-AF0BAC45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31D-1656-473E-8958-D636FE04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A52-2184-4ED6-BEF1-E7AB089A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3BD-B382-4325-A109-8A51F110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8C3-5F5A-46DF-9BE1-DE8480D6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441-6DC1-4E31-BF28-7FFA6D81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198-F3AA-483B-B866-EDE0A033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9F2-AF4C-4A9E-90C2-9887FB67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CFD5-77FA-46BD-AAE5-83E5938F5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609480"/>
            <a:ext cx="51051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Controlling Information Systems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Introduction to Internal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3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k vs. Exposure (Cont.)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, you recommend that the company install a sprinkler system with a 5-year annualized cost (net present value) of $10,000 each year to install and maintai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 of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At this point you might be tempted to say that the compan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idual expected ri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ust increased to –$41,000 (–$31,000 – $10,000), but wait! The sprinkler system lowered the likelihood of a damaging fire from 5 to 2 percent. In conjunction with this lower probability, the insurance company agreed to increase its coverage to $30,000 while holding the annual premium constant at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idual exp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osure is –$1,000, calculated as follows: Expected gross risk (–$20,000 or –$1,000,000 × 0.02) plus the insurance policy ($30,000) equals a gain of $10,000, but we must subtract the insurance premium ($1,000) and the sprinkler system ($10,000), leaving the residual expected risk at –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565-5BC2-4A37-B2DB-F7020800A4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onents of Enterprise Risk Manage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Response (4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 risky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likelihood or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 extinguis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&gt; Benefits of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in place to make sure Risk Response are carri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88D-B88D-4F51-92A2-4769D421E1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onents of Enterprise Risk Manage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apture and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Decision Makers can carry out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overall ERM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77D-737E-4725-ADFB-058BF97D12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Internal Control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5240"/>
            <a:ext cx="868680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finition of Internal Control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8760" y="1454040"/>
            <a:ext cx="8750160" cy="486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AS 78 (1995) - adopted COSO 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NAL CONTROL is a process-effected by a an entity’s board of directors, management, and other personnel-designed to provide reasonable assurance regarding the achievement of objectives in the following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ffectiveness &amp; efficiency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iability of financial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iance with applicable laws &amp; regul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6E9-A389-4D5D-863A-9C431FA215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472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ive Interrelated Components of Internal Control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52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rol enviro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ne at the top, the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sk 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dentification/analysis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ro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formation &amp;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 processing of info in a form and time frame that enables people to do their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nito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ocess that assess quality of internal control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E7D-4799-4866-9FFD-DF7B16866C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SO Report, SOA, and SAS 94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tion addressing implementation of the Sarbanes Oxley Act section 404, the SEC used the COSO description of internal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ent on to say that management must base its evaluation of the effectiveness of its internal control system on a framework such as 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O report stresses internal control is a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mentary perspective on internal control is found in Statement on Auditing Standards (SAS) 94, entitled “The Effect on Information Technology on the Auditor’s Consideration of Internal Control in a Financial Statement Audit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andard guides auditors in understanding the impact of IT on internal control and assessing IT-related control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, SAS 94 highlights how IT can be used to strengthen internal control, while at the same time emphasizing how IT can actually weaken som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371-FA3D-488A-AF9D-9B8F1FB175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cent Internal Control Legisl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banes-Oxley Act (SOA) of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public company accounting oversight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ccountability for company officers and board of 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white collar crime 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its audit firms from providing design and implementation of financial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33B-A5A3-4ABA-8858-BC0321F4AB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arbanes-Oxley Act of 2002 (SOA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02—CEOs and CFOs must certify quarterly and annual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404—Mandates the annual report filed with the SEC include an internal control report by management whi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significan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of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Key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Key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41911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495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G 54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E55-2587-4120-982E-8E7880C9F0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71840" y="609480"/>
            <a:ext cx="251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Outline of SOA 2002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752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555-965A-43F6-8DE4-78C53A0103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the eight elements of COS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erprise Risk Management—Integrated Fra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at management employs internal control systems as part of organizational and IT governance initi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internal control systems assist organizations to achieve objectives and respond to ri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fraud, computer fraud, and computer ab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erate control goals for operations and information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jor categories of control p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DBF-C706-4749-AC23-6426916B28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8400" y="88560"/>
            <a:ext cx="774720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raud and its Relationship to Contro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594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ud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liberate act or untruth intended to obtain unfair or unlawful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charged with responsibility to prevent and/or disclose frau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ystems enable management to do this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responsible to provide internal control system per the Foreign Corrupt Practices Act of 1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1102 of the Sarbanes-Oxley Act specifically addresses corporate f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ces of fraud undermine management’s ability to convince various authorities that it is upholding its stewardship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572-F4FD-47F3-9BE1-337D8CF0FE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AS 99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ounting profession too has been proactive in dealing with corporate fraud, as it has launched an anti-fraud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anifestations of this initiative is Statement on Auditing Standards (SAS) Number 99, entitled Consideration of Fraud in a Financial Statement Aud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 99 has the same title as its predecessor, SAS 82, but the new standard is much more encompassing than the 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, SAS 99 emphasizes brainstorming fraud risks, increasing professional skepticism, using unpredictable audit test patterns, and detecting management override of internal contr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5DB-4873-4972-854D-DC5F886D63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&amp;Y Fraud Surve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 % of fraud committed by company ins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55% of perpetrators were management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aud in less-developed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bout 20 % of fraud comes to the public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40% of frauds are known to the public, 20% are kept confidential, and the other 40% are not yet dis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evention is internal control, management reviews, and internal au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1 fraud worry to executives is asset misapprop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2 fraud worry to executives is computer c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rganizations now have formal fraud prevention policies including codes of corporate governance and employee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ful fraud prevention techniques are internal controls, management reviews, and internal au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444-FDD0-4F51-86F8-BB31F02A0C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70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linas and Dull Working Definition of IC: Key Poi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of internal control is not an end in itself. Rather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ns to an 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end of attaining process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ontrol itself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refore, like any system it m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have clearly defined go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consist of interrelated components that act in concert to achieve those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also say that internal control is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a viable internal control system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agement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of any internal control system is largely a function of the people who operat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ontrol cannot be expected to provi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sol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00% assurance that the organization will reach its objectives. Rather, the operative phrase is that it should provi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sonable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ontrol is not free; controls should be built in and cost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5C4-9C03-41C8-B784-C991754504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061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linas and Dull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rking Definition of I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369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stem of integrated elements - people, structure, processes, and procedures - acting in concert to provide reasonable assurance that an organization achiev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siness proc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. The design and operation of the internal control system is the responsibility of top management and therefore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769-F4C3-42AA-9A19-2B82125722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5240" y="88920"/>
            <a:ext cx="888984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Text definition of IC cont.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2280" y="1530360"/>
            <a:ext cx="7759440" cy="47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 management’s careful assessment of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based on management’s evaluation of costs versus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built on management’s  strong sense of business ethics and personal integ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F3E-EB2E-4236-9294-11248419A7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8400" y="165240"/>
            <a:ext cx="774720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Ethics and Control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7360" y="1295280"/>
            <a:ext cx="8369280" cy="47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O report stresses ethics as part of control environment (tone at the t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CPA has built ethics issues into CPA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e of Management Accountants has a code of ethics which is also tested on both the CMA and CFM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Auditing has ethics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rporations have developed Codes of Con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488-55CE-479E-884D-4C6EE321F7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Business Process Control Goal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rol Go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nds to be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goals of operation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goals of information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able 7.1 Control Goals (page 2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7CF-9213-4ED6-9573-C432FA488F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65240"/>
            <a:ext cx="85341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trol Goals of the Operations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360" y="1530000"/>
            <a:ext cx="8369280" cy="45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sure effectiveness of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is achieving it’s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sure efficient employment of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&gt;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sure security of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849-3CF4-4CC7-977D-E840A78F26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" y="88920"/>
            <a:ext cx="881388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trol Goals of Operations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674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sure effectiveness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sure of success in meeting one or more operations process goals which reflect the criteria used to judge the effectiveness of various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Deposit cash receipts on the day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sure efficient employment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sure of the productivity of the resources applied to achieve a set of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What is the cost of people, computers, and other resources to deposit cash on the day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sure security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ng an organization’s resources from loss, destruction, disclosure, copying, sale, or other mis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Are cash and information resources available when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y put to authorized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26B-3A97-41D6-BAA1-1E876BEA2D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8400" y="164880"/>
            <a:ext cx="774720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Why  do we need controls?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454040"/>
            <a:ext cx="775944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to provide reasonable assurance that the goals of each business process are being achie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to mitigate the risk that the enterprise will be exposed to some type of harm, danger, or loss (including loss caus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u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other intentional and unintentional a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to provide reasonable assurance that the company is in compliance with applicable legal and regulatory oblig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F07-7F65-42E7-BACF-F9EFB27F67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trol Goals of the Information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60160"/>
            <a:ext cx="830592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business event inpu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n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valid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complet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aster dat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n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complet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1B1-CC4B-4D4F-931B-8966EFFAFE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5760" y="88920"/>
            <a:ext cx="77468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trol Goals of Information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24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val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data is approved and represents actual economic events an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Are all cash receipts input into the process supported by valid/authorized customer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at all valid events or objects be captured and entered into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Are all valid customer payment captured on a customer remittance advice (RA) and entered into the proces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at events be correctly captured and entered into the system (correc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s correct payment amount and customer number on the R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s the correct payment amount and customer number keyed into the syst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E26-B93F-4D86-A2EF-AFA3AD4050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5760" y="88920"/>
            <a:ext cx="77468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trol Goals of Information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3480" y="914040"/>
            <a:ext cx="8521560" cy="53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Update Information Process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new data (from Input’s) with existing Mas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ll events entered into the computer are reflected in their respective mas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Are all input cash receipts recorded in the AR master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at data entered into a computer are reflected correctly in their respective mas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Are all input cash receipts correctly recorded in the AR master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n Real-Time Processing Environ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571-F0B8-4788-93F6-F2CCE5B9D9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Master Updates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917640"/>
            <a:ext cx="8001000" cy="56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1A7-D5D0-49E5-B067-70F0F667EC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ontrol Goals Map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9A1-E021-4C71-84EC-0EA5745B35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nox Company Systems Flowchart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914400"/>
          <a:ext cx="7839360" cy="51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83936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CA2-4E61-4D50-A0AF-DF57A09BA7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trol Goals for the Lenox Cash Receipts Proces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00200" y="2133720"/>
          <a:ext cx="6059520" cy="3228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  <a:gridCol w="912960"/>
                <a:gridCol w="996840"/>
                <a:gridCol w="542880"/>
                <a:gridCol w="542880"/>
                <a:gridCol w="549360"/>
                <a:gridCol w="549360"/>
                <a:gridCol w="739800"/>
              </a:tblGrid>
              <a:tr h="26100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Lenox Cash Receipts Business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operations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oals of the information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ectiveness of 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efficient employment of resources (e.g., people and comput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ure security of resources (e.g., checks and AR master dat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the remittance advice inputs, ens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the AR master data, ens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46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00200" y="5410080"/>
          <a:ext cx="6056280" cy="853920"/>
        </p:xfrm>
        <a:graphic>
          <a:graphicData uri="http://schemas.openxmlformats.org/drawingml/2006/table">
            <a:tbl>
              <a:tblPr/>
              <a:tblGrid>
                <a:gridCol w="4394160"/>
                <a:gridCol w="16621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ness goals includ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– Timely deposit of che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– Comply with compensating balance agreements with the depository b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= Input valid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 = Input complete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 = Input accura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 = Update complete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 = Update accura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0" y="545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E46-A055-4D3D-B25B-6B69DDDA58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usiness Process Control Pla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siness Process Control Pl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reflect information processing policies and procedures that assist in accomplishing contro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rol Enviro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fact that the control environment appears at the top of the hierarchy illustrates that the control environment comprises a multitude of factors that can either reinforce or mitigate the effectiveness of the pervasive and application control p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vasive control pla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to a multitude of goal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the control environment, they provide a climate or set of surrounding conditions in which the various business processes ope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broad in scope and apply equally to all business processes, hence th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v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process control pla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to those controls particular to a specific process or subsystem, such as billing or cash receipts, or to a particular technology used to process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BF1-251E-47DC-A1EB-EC3D43A577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6153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571-1842-4805-B974-94055456FF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164880"/>
            <a:ext cx="868680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ther Classifications of Control Pla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entive Contro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sue is prevented from occurring – cash receipts are immediately deposited to avoid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ctive Contro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sue is discovered – unauthorized disbursement is discovered during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ctive Contro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sue is corrected – erroneous data is entered in the system and reported on an error and summary report; a clerk re-enters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FB9-906E-475E-8930-9976A12E4D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Organizational Governanc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Proces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rocesses necessary to Achiev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Intern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06F-A3F6-4CFF-B65B-396B416E8E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: Objective Setting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371600"/>
            <a:ext cx="7848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ission, vision, purpose: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e.g., to be the leading producer of household products in the regions in which we op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337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971800"/>
            <a:ext cx="190512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te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.g., to be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op quartil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duct sales for retailers of our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2971800"/>
            <a:ext cx="190476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.g., expand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f our top-five selling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ducts to meet incr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2971800"/>
            <a:ext cx="236232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objective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rease production of x by 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ire 180 qualified new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intain product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400000">
            <a:off x="2476440" y="35431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09588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: Adapted from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nterprise Risk Management—Integrated Framework, Application Techniq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p. 2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5219640" y="3542760"/>
            <a:ext cx="304920" cy="838440"/>
          </a:xfrm>
          <a:prstGeom prst="upDownArrow">
            <a:avLst>
              <a:gd name="adj1" fmla="val 50000"/>
              <a:gd name="adj2" fmla="val 5473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88C-A582-4C34-AF1F-5E34ED89F3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Enterprise Risk Managemen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Process for Creating Organization Objectives (i.e. Govern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of Director, Management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vents that might effec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risk associated with thes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BE7-CBDB-402E-949B-A2275D38C5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onents of Enterprise Risk Manage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formulated 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, ethical values, risk, risk appetite, oversight functions, organization design, authority and responsibilities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which potential events can not be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, Reporting and Compliance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Opportunities that can effect th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– Assessment a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ies – Feedback to Objective Set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606-0047-418D-93B6-B5A1C810DA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onents of Enterprise Risk Manage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mpact of a risk on a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 – Probability that the risk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- $ Effect of the risk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5C3-D49B-422A-8ECD-6E86DEEE6A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k vs. Exposur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annual dollar loss that would occur (i.e., the impact) should a costly event, say a destructive fire, take place. For argument sake, say that the estimated los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$1,000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annual probability that the event will occur (i.e., the likelihood). Suppose the estimat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perc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item 1 by item 2 to get an initi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ected gross ris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ss)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$50,000 (–$1,000,000 × 0.05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is the maximum amount or upper limit that should be paid for controls and the related risk reduction offered by such controls, in a given year. Next, we illustrate a recommendation plan using o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c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, a fire insurance policy, and o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, a sprinkle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at the company would pa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nuall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 of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0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re insurance polic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duced risk exposure due to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The estimated monetary damage remains at $1 million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oss risk (loss) remains at –$50,000, because there is still a 5 percent chance that a fire could occur. But, the compan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idual expected ri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osure is now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$3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–$50,000 + ($20,000 – $1,000)]. Ou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ss is reduced by the amount of the insurance policy (less the cost of the polic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7B3-30B3-4E51-8438-D999A2DCB8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5T15:12:36Z</dcterms:created>
  <dc:creator>Curt Westbrook</dc:creator>
  <dc:description/>
  <dc:language>en-US</dc:language>
  <cp:lastModifiedBy>College of Business Administration</cp:lastModifiedBy>
  <cp:lastPrinted>2001-02-26T02:04:17Z</cp:lastPrinted>
  <dcterms:modified xsi:type="dcterms:W3CDTF">2007-09-17T13:49:52Z</dcterms:modified>
  <cp:revision>55</cp:revision>
  <dc:subject/>
  <dc:title>Chapter 7</dc:title>
</cp:coreProperties>
</file>